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936-18F9-4ED0-8362-27B577DB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C5B-A9D1-4858-829C-805AFAB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4A8-0381-4D12-B62C-66F09B01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3CF-13C8-4082-A612-D8F5D687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3E1-3AAF-4938-84FD-FEC2CB8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8EA-E100-4FB0-B9B8-BB022DDB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03B-2499-4C5E-B9B8-C9D3FEC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53A-4C7A-49EE-8675-51E69276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B75-4C00-4960-8B60-74ABD34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53-5116-40EC-B6AF-EFBABB56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16A-86E7-4898-B0DE-1893FC1E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352-8649-43C8-BF85-CDFA279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F728CFE-1618-4BF4-AC86-3A32661A1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333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Lesson 8    Ca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1322164131441531541595"/>
          <p:cNvPicPr/>
          <p:nvPr/>
        </p:nvPicPr>
        <p:blipFill>
          <a:blip r:embed="rId1"/>
          <a:stretch/>
        </p:blipFill>
        <p:spPr>
          <a:xfrm>
            <a:off x="1332000" y="1413000"/>
            <a:ext cx="6408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Exercis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49720"/>
            <a:ext cx="89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 and 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a ______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7771439051441531541590"/>
          <p:cNvPicPr/>
          <p:nvPr/>
        </p:nvPicPr>
        <p:blipFill>
          <a:blip r:embed="rId1"/>
          <a:stretch/>
        </p:blipFill>
        <p:spPr>
          <a:xfrm>
            <a:off x="0" y="692280"/>
            <a:ext cx="4859280" cy="329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501336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5013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59500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2874728191441531541639"/>
          <p:cNvPicPr/>
          <p:nvPr/>
        </p:nvPicPr>
        <p:blipFill>
          <a:blip r:embed="rId1"/>
          <a:stretch/>
        </p:blipFill>
        <p:spPr>
          <a:xfrm>
            <a:off x="0" y="0"/>
            <a:ext cx="4932360" cy="329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378936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is is the flag of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is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five  ______     ______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65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55166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yellow       st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333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about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______ they _____ _____ and French in Can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 also ______ the ______ _____ of Canada.  It’s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7848720" cy="13129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        English        capital    city            Canada       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476280"/>
            <a:ext cx="191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33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8320" y="119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sp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9440" y="126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4040" y="2638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capital     c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900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1. know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知道；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2. about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关于；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3. know about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了解关于…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4. city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5. English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6. French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7. the capital city of……            ……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首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8. Ottawa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9. leaf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树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1322164131441531541595"/>
          <p:cNvPicPr/>
          <p:nvPr/>
        </p:nvPicPr>
        <p:blipFill>
          <a:blip r:embed="rId1"/>
          <a:srcRect l="8995" t="4485" r="8995" b="4485"/>
          <a:stretch/>
        </p:blipFill>
        <p:spPr>
          <a:xfrm>
            <a:off x="0" y="907920"/>
            <a:ext cx="5256360" cy="439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6753008531441531541600"/>
          <p:cNvPicPr/>
          <p:nvPr/>
        </p:nvPicPr>
        <p:blipFill>
          <a:blip r:embed="rId2"/>
          <a:srcRect l="19822" t="3754" r="17819" b="5493"/>
          <a:stretch/>
        </p:blipFill>
        <p:spPr>
          <a:xfrm>
            <a:off x="5796000" y="1341360"/>
            <a:ext cx="2448000" cy="324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3020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My friends Jenny and Danny live in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59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his is a map of 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Canad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9863774151441531541619"/>
          <p:cNvPicPr/>
          <p:nvPr/>
        </p:nvPicPr>
        <p:blipFill>
          <a:blip r:embed="rId1"/>
          <a:srcRect l="0" t="5115" r="0" b="0"/>
          <a:stretch/>
        </p:blipFill>
        <p:spPr>
          <a:xfrm>
            <a:off x="0" y="333360"/>
            <a:ext cx="507672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6000" y="981000"/>
            <a:ext cx="27352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English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英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French  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法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1322164131441531541595"/>
          <p:cNvPicPr/>
          <p:nvPr/>
        </p:nvPicPr>
        <p:blipFill>
          <a:blip r:embed="rId1"/>
          <a:srcRect l="8995" t="5946" r="8995" b="4485"/>
          <a:stretch/>
        </p:blipFill>
        <p:spPr>
          <a:xfrm>
            <a:off x="0" y="115920"/>
            <a:ext cx="525636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3357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Ottawa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渥太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437000"/>
            <a:ext cx="8137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 also know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the capital city of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Cana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It’s  Ottaw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3429000"/>
            <a:ext cx="503280" cy="433440"/>
          </a:xfrm>
          <a:custGeom>
            <a:avLst/>
            <a:gdLst/>
            <a:ahLst/>
            <a:rect l="l" t="t" r="r" b="b"/>
            <a:pathLst>
              <a:path w="792" h="682">
                <a:moveTo>
                  <a:pt x="0" y="260"/>
                </a:moveTo>
                <a:lnTo>
                  <a:pt x="302" y="260"/>
                </a:lnTo>
                <a:lnTo>
                  <a:pt x="396" y="0"/>
                </a:lnTo>
                <a:lnTo>
                  <a:pt x="489" y="260"/>
                </a:lnTo>
                <a:lnTo>
                  <a:pt x="792" y="260"/>
                </a:lnTo>
                <a:lnTo>
                  <a:pt x="547" y="421"/>
                </a:lnTo>
                <a:lnTo>
                  <a:pt x="641" y="682"/>
                </a:lnTo>
                <a:lnTo>
                  <a:pt x="396" y="521"/>
                </a:lnTo>
                <a:lnTo>
                  <a:pt x="151" y="682"/>
                </a:lnTo>
                <a:lnTo>
                  <a:pt x="244" y="421"/>
                </a:lnTo>
                <a:lnTo>
                  <a:pt x="0" y="2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7771439051441531541590"/>
          <p:cNvPicPr/>
          <p:nvPr/>
        </p:nvPicPr>
        <p:blipFill>
          <a:blip r:embed="rId1"/>
          <a:stretch/>
        </p:blipFill>
        <p:spPr>
          <a:xfrm>
            <a:off x="0" y="189000"/>
            <a:ext cx="5580000" cy="378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581360"/>
            <a:ext cx="9396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The flag of Canad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is red and wh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a red lea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77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Famous places in Can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著名的      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5688" t="18922" r="6444" b="20585"/>
          <a:stretch/>
        </p:blipFill>
        <p:spPr>
          <a:xfrm>
            <a:off x="0" y="0"/>
            <a:ext cx="3851280" cy="282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630" t="15999" r="4630" b="15999"/>
          <a:stretch/>
        </p:blipFill>
        <p:spPr>
          <a:xfrm>
            <a:off x="0" y="4005360"/>
            <a:ext cx="3924360" cy="27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836640"/>
            <a:ext cx="51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Niagara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a famous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aterfal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602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尼亚加拉瀑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869000"/>
            <a:ext cx="49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is the CN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ow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very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00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加拿大国家电视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About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5264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.It is famous waterfall.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2.It is a very tall tower.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3.They speak _____ and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4.The flag of Canada has a ____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5.It is the capital city.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00640"/>
            <a:ext cx="86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French                 ②Ottawa              ③leaf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④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Niagara Falls      ⑤CN Tower         ⑥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907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472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3357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2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02:24:16Z</dcterms:created>
  <dc:creator/>
  <dc:description/>
  <dc:language>en-US</dc:language>
  <cp:lastModifiedBy/>
  <dcterms:modified xsi:type="dcterms:W3CDTF">2017-09-15T04:15:37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